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7E22-200B-4770-AFED-E39142B3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421C-EDE4-4135-8B33-274B879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8784-6C73-4146-BA5F-1AFD05A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F77D-3187-4BEC-ADF0-3D7E6908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28F-03AD-4B6B-857D-68D2D3A0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0B25-D603-4DAA-9973-2E2FC56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F29F-9959-4604-B9DD-3CBE9DB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7B2-A5EB-4740-907B-AD56B4B1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A0E-FE78-4BC9-A2CF-F90D9D5E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139-B652-4ED6-BBD0-F8A179A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1E5D-DD72-45C8-8E71-D0D94FF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7A66-1D92-451B-B735-2FDD2D94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7C8-B0D2-46F3-95AA-92F78D7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AB16-C266-48C8-BE4E-60A50067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16FE-5F2E-4039-AB86-A92E0F31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0D9B-EE96-4BA1-8F9D-507A8F14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6708-840D-4974-9AC5-0E53E5E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069A-3BCF-4B88-A781-F6E51ACF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ED5D-6C42-4DEC-990E-6F7EED6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0ACE-BB3C-404E-8B81-EDE2EF3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07B7-FA04-4BF5-AC47-ED6AAD89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C70D-D487-4EE2-99AD-044F8DC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5D23-B295-4507-A8C9-7307C52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D907-8C0A-47CA-88FF-C1A2F7D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4B6-D2A3-4FBF-9A94-5B94A7AFA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F5B9-E08C-4D7E-8F9C-C74D622DD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Interlude: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A Kingdom Story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Waiting for an Ending</a:t>
            </a:r>
            <a:br>
              <a:rPr sz="5400"/>
            </a:br>
            <a:br>
              <a:rPr sz="2600"/>
            </a:br>
            <a:r>
              <a:rPr b="1" i="1" lang="en-US" sz="5400" spc="-1" strike="noStrike">
                <a:solidFill>
                  <a:srgbClr val="dfdef6"/>
                </a:solidFill>
                <a:latin typeface="Times New Roman"/>
              </a:rPr>
              <a:t>The Intertestamental Period</a:t>
            </a:r>
            <a:endParaRPr b="0" lang="en-US" sz="5400" spc="-1" strike="noStrike">
              <a:solidFill>
                <a:srgbClr val="dfdef6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Diversified Response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senes: Withdraw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harisees: Boundary mar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Zealots: Violent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adducees: Strategic comprom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Unfolding Story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rule: Jewish ident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lexander: Threat of Helle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tiochus Epiphanes and Maccabean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mpromised Jewish rule: Hasmoneans and diversifie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oman rule and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srael ready for God’s king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Times New Roman"/>
              </a:rPr>
              <a:t>End of the Intertestamental Period</a:t>
            </a:r>
            <a:endParaRPr b="0" lang="en-US" sz="4800" spc="-1" strike="noStrike">
              <a:solidFill>
                <a:srgbClr val="dfdef6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Under Pagan Rule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(until 331 B.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lexander (331 – 323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Ptolemies in Egypt (323 – 198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eleucids in Syria (198 – 142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0" y="1590840"/>
          <a:ext cx="9144000" cy="38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0840"/>
                    <a:ext cx="91440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Under Pagan Rule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(until 331 B.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lexander (331 – 323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Ptolemies in Egypt (323 – 198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eleucids in Syria (198 – 142 B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srael’s independence (142 – 63 B.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ome (63 B.C. – N.T. peri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Israel’s Faith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G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Israel chosen by G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Torah defined Israel’s 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Holy belonged to Isra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Hope for future act of G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Growing Tensions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ressions and h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gan influence and faithfulness to Tor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Growing Hatred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Gentile oppr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or compromising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Growing Hope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or coming kingdom of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iffer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ow it would co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hen it would co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rough whom it would co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ow to live until it ca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Unfolding Story</a:t>
            </a:r>
            <a:endParaRPr b="0" lang="en-US" sz="4400" spc="-1" strike="noStrike">
              <a:solidFill>
                <a:srgbClr val="dfdef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rule: Jewish ident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lexander: Threat of Helle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tiochus Epiphanes and Maccabean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mpromised Jewish rule: Hasmoneans and diversifie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23:30:38Z</dcterms:created>
  <dc:creator>BENNY GEE</dc:creator>
  <dc:description/>
  <dc:language>en-US</dc:language>
  <cp:lastModifiedBy>BENNY GEE</cp:lastModifiedBy>
  <dcterms:modified xsi:type="dcterms:W3CDTF">2005-03-04T02:36:27Z</dcterms:modified>
  <cp:revision>10</cp:revision>
  <dc:subject/>
  <dc:title>Act One: God Establishes His Kingdom Creation</dc:title>
</cp:coreProperties>
</file>